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Click to move the slide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999DF5A-5B96-4D0D-8B36-08859606E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015A22-BF1C-410C-8EDB-505F2FEA5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ldImg"/>
          </p:nvPr>
        </p:nvSpPr>
        <p:spPr>
          <a:xfrm>
            <a:off x="1233360" y="684360"/>
            <a:ext cx="4883400" cy="3662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77520" y="4143600"/>
            <a:ext cx="71866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77520" y="414360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9960" y="414360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7160" y="185256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7160" y="185256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77520" y="414360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07160" y="414360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7160" y="414360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77520" y="507600"/>
            <a:ext cx="5442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77520" y="414360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9960" y="414360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77520" y="4143600"/>
            <a:ext cx="71866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77520" y="4143600"/>
            <a:ext cx="71866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77520" y="414360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9960" y="414360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7160" y="185256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37160" y="185256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77520" y="414360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07160" y="414360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37160" y="4143600"/>
            <a:ext cx="23137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77520" y="507600"/>
            <a:ext cx="5442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77520" y="414360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9960" y="414360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960" y="1852560"/>
            <a:ext cx="350676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77520" y="4143600"/>
            <a:ext cx="71866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38120" y="2788920"/>
            <a:ext cx="4343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9800" algn="ctr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rsinc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76360" y="2788920"/>
            <a:ext cx="51051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Exploring the World Beyond the MERS</a:t>
            </a:r>
            <a:r>
              <a:rPr b="1" i="1" lang="en-US" sz="3000" spc="-1" strike="noStrike" baseline="30000">
                <a:solidFill>
                  <a:srgbClr val="8e001a"/>
                </a:solidFill>
                <a:latin typeface="Arial"/>
              </a:rPr>
              <a:t>®</a:t>
            </a: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 System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038120" y="436356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RS Law Depar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Certifying Officer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Certifying Offic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Resolution v. Power of Attorn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update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Payoffs 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the loan Servicer can provide a payoff fig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t way for title professionals to contact the current servicer is by using MER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letter explaining relationship between MERS, Servicer and Not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Lien Releases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Servicer receives payoff, an officer of MERS executes lien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Lender executes the lien release instead of MERS, it will cloud title with the exception of Colorado and North Caro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 of lien releases in New Y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Foreclosures 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S provides Recommended Foreclosure Procedures as a guid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 of foreclosing in MERS name with recent case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on completion of foreclosure, do not put title into MERS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Bankruptcy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ing Proof of Claim and/or Motion for Relief in MERS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ersary Procee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Service Of Process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es MERS recei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al pleadings, notices, demand letters, subpoe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MERS receive mai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 in MI or FL, or at corporate headquarters, by way of a process server or certified 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es MERS do with i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s are scanned and promptly forwarded electronically to the central point of contact at the Member servicing the lo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Indemnification and Notification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 Rules 13 and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ention of counsel is Member’s 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ifying MERS of suits and threatened s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with the MERS Law Department and outside counsel:  Member control, MERS invol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se any questions regarding indemnification or lack of interest in the suit promptl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Subpoenas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S receives third-party subpoenas, most commonly in divorce, criminal and bankruptcy proceed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 certifying officer of MERS to respond for both MERS and the Me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S does not own or produce documents -- the Member  indicates that it is producing documents in its own n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to respond to a subpoena could lead to a costly contempt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ying officer can testif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tual interest in protecting the privacy of Members, borrowers and the MER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MOMs In Error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MERS Members erroneously closing loans using MOM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M loans sold to non-MERS Me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State Specific Issues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iforn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tgagee Affidav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a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HA Number and Lost Note Affidav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MERS History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-Agency Technology Task Force in 199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S was incorporated in 19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S selected as technology provider in 19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ystem operational in 199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MOM (MERS as Original Mortgagee) loans registered in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State Specific Issues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State Specific Issues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achusetts V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nesota Lien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th Carolina Lien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th Carolina Foreclo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uisiana Foreclo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nsylvania Revenue R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State Qualification &amp; Licensing 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SCORP, INC. &amp; Mortgage Electronic Registration Systems, In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Co-ops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C Fil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Manufactured Housing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 of titl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surrend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ion of the certificate of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Suffolk County Litigation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nimous 4-0 deci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y ordered to record and index all MERS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MERS</a:t>
            </a:r>
            <a:r>
              <a:rPr b="1" i="1" lang="en-US" sz="3000" spc="-1" strike="noStrike" baseline="30000">
                <a:solidFill>
                  <a:srgbClr val="8e001a"/>
                </a:solidFill>
                <a:latin typeface="Arial"/>
              </a:rPr>
              <a:t>®</a:t>
            </a: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 Commercial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 July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818 loans registered, over $15.2 billion in CMBS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development partn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r Stear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 Ca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s Farg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MAC Comme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 Hancoc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c of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 on the system: Bear Stearns, Wells Fargo, Banc of America, Morgan Stanley and Ginnie Ma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Future of Mortgage Banking:</a:t>
            </a:r>
            <a:br>
              <a:rPr sz="3000"/>
            </a:b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The MERS</a:t>
            </a:r>
            <a:r>
              <a:rPr b="1" i="1" lang="en-US" sz="3000" spc="-1" strike="noStrike" baseline="30000">
                <a:solidFill>
                  <a:srgbClr val="8e001a"/>
                </a:solidFill>
                <a:latin typeface="Arial"/>
              </a:rPr>
              <a:t>®</a:t>
            </a: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 eRegistry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ed April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with MBA, the Agencies and others industry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ed to track and identify electronic promissory 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BA has officially endorsed MERS to create and operate the MER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Reg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an eNote, there is no eMortg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Q &amp; A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505320" y="2819520"/>
          <a:ext cx="1923840" cy="26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819520"/>
                    <a:ext cx="19238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Corporate Structure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SCORP, Inc. 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operating company that  owns the MER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ystem.  Owned by 28 leading mortgage industry compan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tgage Electronic Registration Systems, Inc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“MERS”): A bankruptcy-remote subsidiary of MERSCORP, Inc. whose sole purpose is to serve as mortgagee in the land records for loans registered on the MER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Governing Documents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Member enters into a Membership Agreement with MERSCORP,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eement consists of Membership Application that incorporates Terms and Conditions, Rules of Membership and the Procedures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documents can be downloaded from MERS web-site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ersin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 agrees that MERS shall serve as their nominee as the mortgagee in the land records in exchange for the Member registering the mortgage on the MER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What is MERS?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ctronic Registry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Electronic registry for tracking servicing rights and beneficial ownership interests in mortgage lo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tgage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MERS is the mortgagee in a nominee capacity for the beneficial owner of a mortgage loan in the land rec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MERS Basics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on vs. Recording.  MERS is not a system of legal record nor a replacement for the public land records.  Mortgages must be recorded in the county land rec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S is a tracking system.  No interests are transferred on the MER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ystem, only tr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Two Ways for MERS to </a:t>
            </a:r>
            <a:br>
              <a:rPr sz="3000"/>
            </a:b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Become Mortgagee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S as Original Mortgagee (“MOM”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Use Deeds of Trust or Mortgages with MERS as Original Beneficiary or Mortgagee using standard language approved by Fannie Mae, Freddie Mac, FHA and 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gnment to MER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Use an assignment to MERS for an existing non-MOM mortg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MERS as Original Mortgagee 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Security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Section - “MERS” is defined in subsection  as the Mortgag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ing Clause – Borrower  mortgages, grants and conveys the Property to 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losure Section – Borrower agrees that MERS holds legal title and acknowledges that MERS has right to exercise rights of mortgagee, including foreclo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7520" y="507600"/>
            <a:ext cx="54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e001a"/>
                </a:solidFill>
                <a:latin typeface="Arial"/>
              </a:rPr>
              <a:t>Issuing a Title Policy</a:t>
            </a:r>
            <a:endParaRPr b="1" i="1" lang="en-US" sz="3000" spc="-1" strike="noStrike">
              <a:solidFill>
                <a:srgbClr val="8e001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77520" y="1852560"/>
            <a:ext cx="71866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recommend that MERS be a named insured on title policies when a MOM is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 owner is always an insured pa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8e001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S cannot fix problems in the chain of title that occurred prior to becoming mortgag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14:42:01Z</dcterms:created>
  <dc:creator>MERS</dc:creator>
  <dc:description/>
  <dc:language>en-US</dc:language>
  <cp:lastModifiedBy>O. Max Gardner III</cp:lastModifiedBy>
  <cp:lastPrinted>2001-03-06T23:14:27Z</cp:lastPrinted>
  <dcterms:modified xsi:type="dcterms:W3CDTF">2006-08-12T14:15:27Z</dcterms:modified>
  <cp:revision>118</cp:revision>
  <dc:subject/>
  <dc:title>No Slide Title</dc:title>
</cp:coreProperties>
</file>